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37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5EF-3A68-441C-8A86-88D0764A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4BF-4E3A-498E-B716-FFDCFC92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A62-396F-4DE6-833B-14834DB0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182D-7A47-4C79-B295-11EE4C3B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AB03-54C9-439D-8701-24BE1777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A557-601F-415F-BF09-99810FC5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DAA-DFD0-47F6-A1C1-6601FE4B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5BA-D6C0-4504-B2D7-3333223D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9D4-25C5-47E7-B2D4-9544D7A7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61E-5F0F-40BE-8053-FCDC7446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4D1-4830-4240-BB5F-3B74E0CE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F957-C243-44A7-9206-B3844807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3B65-6676-4A9F-A530-126098483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29400"/>
            <a:ext cx="22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visualclassroom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6.2 Rates of Change for Composite Function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     - The Chain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09560" y="3314880"/>
          <a:ext cx="212436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3314880"/>
                    <a:ext cx="2124360" cy="10285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6320" y="462132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00200" y="5334120"/>
          <a:ext cx="5003640" cy="108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334120"/>
                    <a:ext cx="50036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04920" y="13971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Given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4 –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14920" y="1414440"/>
            <a:ext cx="25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4 –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57960" y="14000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95440" y="198108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un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un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osite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795840" y="3238560"/>
          <a:ext cx="4481280" cy="102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95840" y="3238560"/>
                    <a:ext cx="4481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3880" y="1062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of of the Chain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47920" y="838080"/>
          <a:ext cx="202860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20286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905120" y="1905120"/>
          <a:ext cx="252864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905120"/>
                    <a:ext cx="252864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890720" y="3048120"/>
          <a:ext cx="2986200" cy="97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90720" y="3048120"/>
                    <a:ext cx="298620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820880" y="4267080"/>
          <a:ext cx="3016080" cy="97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0880" y="4267080"/>
                    <a:ext cx="301608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798560" y="5608800"/>
          <a:ext cx="1554120" cy="94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8560" y="5608800"/>
                    <a:ext cx="155412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4120" y="9907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b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9810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040" y="33526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both limits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405400" y="4518000"/>
          <a:ext cx="3276720" cy="468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05400" y="4518000"/>
                    <a:ext cx="32767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334120" y="57913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. of deriv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04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xample 1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127400" y="177840"/>
          <a:ext cx="5223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7400" y="177840"/>
                    <a:ext cx="5223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362320" y="3682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4316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6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36920" y="1154160"/>
          <a:ext cx="2381040" cy="9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6920" y="1154160"/>
                    <a:ext cx="238104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533680" y="2133720"/>
          <a:ext cx="3943440" cy="95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33680" y="2133720"/>
                    <a:ext cx="394344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943360" y="32148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(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6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43360" y="3824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2(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6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572000"/>
            <a:ext cx="7086600" cy="0"/>
          </a:xfrm>
          <a:prstGeom prst="line">
            <a:avLst/>
          </a:prstGeom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87692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had expand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6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found the derivative of the product, the result would have been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Chain Rule with the Power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914400" y="982800"/>
          <a:ext cx="472428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82800"/>
                    <a:ext cx="4724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328840" y="22860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048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the derivative of the ‘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function multiplied by the derivative of the ‘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987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xample 2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4052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66236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33360" y="53769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ative of outer · derivative of 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3929040"/>
            <a:ext cx="868680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52600" y="518652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776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4120" y="5210280"/>
            <a:ext cx="457200" cy="228600"/>
          </a:xfrm>
          <a:custGeom>
            <a:avLst/>
            <a:gdLst>
              <a:gd name="textAreaLeft" fmla="*/ 152280 w 457200"/>
              <a:gd name="textAreaRight" fmla="*/ 391680 w 457200"/>
              <a:gd name="textAreaTop" fmla="*/ 151920 h 228600"/>
              <a:gd name="textAreaBottom" fmla="*/ 195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7450"/>
                </a:moveTo>
                <a:lnTo>
                  <a:pt x="14350" y="17450"/>
                </a:lnTo>
                <a:lnTo>
                  <a:pt x="14350" y="7200"/>
                </a:lnTo>
                <a:lnTo>
                  <a:pt x="11250" y="7200"/>
                </a:lnTo>
                <a:lnTo>
                  <a:pt x="16425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995640" y="5200560"/>
            <a:ext cx="533520" cy="223920"/>
          </a:xfrm>
          <a:custGeom>
            <a:avLst/>
            <a:gdLst>
              <a:gd name="textAreaLeft" fmla="*/ 177840 w 533520"/>
              <a:gd name="textAreaRight" fmla="*/ 457200 w 533520"/>
              <a:gd name="textAreaTop" fmla="*/ 158760 h 223920"/>
              <a:gd name="textAreaBottom" fmla="*/ 191880 h 223920"/>
            </a:gdLst>
            <a:ahLst/>
            <a:rect l="textAreaLeft" t="textAreaTop" r="textAreaRight" b="textAreaBottom"/>
            <a:pathLst>
              <a:path w="21600" h="21600">
                <a:moveTo>
                  <a:pt x="0" y="18414"/>
                </a:moveTo>
                <a:lnTo>
                  <a:pt x="15314" y="18414"/>
                </a:lnTo>
                <a:lnTo>
                  <a:pt x="15314" y="7200"/>
                </a:lnTo>
                <a:lnTo>
                  <a:pt x="12214" y="7200"/>
                </a:lnTo>
                <a:lnTo>
                  <a:pt x="16907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46432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(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47960" y="4648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95480" y="5896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292640" y="152280"/>
          <a:ext cx="58428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2640" y="152280"/>
                    <a:ext cx="5842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286000" y="343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160" y="2570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xample 3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105520" y="255600"/>
          <a:ext cx="3111480" cy="7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55600"/>
                    <a:ext cx="31114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562720" y="1127160"/>
          <a:ext cx="2909880" cy="70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1127160"/>
                    <a:ext cx="2909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567400" y="1676520"/>
          <a:ext cx="3043080" cy="86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7400" y="1676520"/>
                    <a:ext cx="304308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09480" y="1219320"/>
          <a:ext cx="3786480" cy="134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219320"/>
                    <a:ext cx="378648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09480" y="2514600"/>
          <a:ext cx="6551640" cy="141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480" y="2514600"/>
                    <a:ext cx="655164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066680" y="4191120"/>
          <a:ext cx="4410360" cy="1084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66680" y="4191120"/>
                    <a:ext cx="44103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90720" y="5437080"/>
          <a:ext cx="2631960" cy="1116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90720" y="5437080"/>
                    <a:ext cx="263196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257800" y="1295280"/>
            <a:ext cx="0" cy="1219320"/>
          </a:xfrm>
          <a:prstGeom prst="line">
            <a:avLst/>
          </a:prstGeom>
          <a:ln w="284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/>
          <p:nvPr/>
        </p:nvCxnSpPr>
        <p:spPr>
          <a:xfrm rot="10800000">
            <a:off x="4395240" y="2067840"/>
            <a:ext cx="1172160" cy="218160"/>
          </a:xfrm>
          <a:prstGeom prst="bentConnector3">
            <a:avLst>
              <a:gd name="adj1" fmla="val 49984"/>
            </a:avLst>
          </a:prstGeom>
          <a:ln w="28440">
            <a:solidFill>
              <a:srgbClr val="008000"/>
            </a:solidFill>
            <a:miter/>
            <a:tailEnd len="med" type="triangle" w="med"/>
          </a:ln>
        </p:spPr>
      </p:cxnSp>
    </p:spTree>
  </p:cSld>
  <p:transition>
    <p:randomBar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0" y="90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9600" y="8445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xample 4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848120" y="685800"/>
          <a:ext cx="2900520" cy="11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8120" y="685800"/>
                    <a:ext cx="290052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371600" y="177804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5(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62080" y="2616120"/>
            <a:ext cx="50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(–3)(5)(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3–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273480"/>
            <a:ext cx="27432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52680" y="34974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ve of outer · derivative of 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57960" y="3273480"/>
            <a:ext cx="4572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301920"/>
            <a:ext cx="304920" cy="304920"/>
          </a:xfrm>
          <a:prstGeom prst="upArrow">
            <a:avLst>
              <a:gd name="adj1" fmla="val 50000"/>
              <a:gd name="adj2" fmla="val 48958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19880" y="3301920"/>
            <a:ext cx="304560" cy="304920"/>
          </a:xfrm>
          <a:prstGeom prst="upArrow">
            <a:avLst>
              <a:gd name="adj1" fmla="val 50000"/>
              <a:gd name="adj2" fmla="val 4901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62080" y="4322880"/>
            <a:ext cx="50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(–60)(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033640" y="5130720"/>
          <a:ext cx="1776240" cy="10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33640" y="5130720"/>
                    <a:ext cx="177624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838080" y="152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ifferentiating a quotient with constant num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86240" y="2616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0" y="368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9600" y="3110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xample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414680" y="76320"/>
          <a:ext cx="244332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4680" y="76320"/>
                    <a:ext cx="244332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743440" y="1143000"/>
          <a:ext cx="162720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3440" y="1143000"/>
                    <a:ext cx="16272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04920" y="13860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composition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03280" y="2209680"/>
          <a:ext cx="201132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280" y="2209680"/>
                    <a:ext cx="20113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76280" y="3398760"/>
          <a:ext cx="1371600" cy="94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6280" y="3398760"/>
                    <a:ext cx="13716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76280" y="4556160"/>
          <a:ext cx="3994200" cy="1006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6280" y="4556160"/>
                    <a:ext cx="39942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876920" y="3048120"/>
          <a:ext cx="3841560" cy="1098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3048120"/>
                    <a:ext cx="384156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966960" y="5546880"/>
          <a:ext cx="1585800" cy="1006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66960" y="5546880"/>
                    <a:ext cx="1585800" cy="100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32320" y="4572000"/>
          <a:ext cx="1982880" cy="1068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2320" y="4572000"/>
                    <a:ext cx="1982880" cy="10684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4734000" y="3048120"/>
            <a:ext cx="0" cy="365760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981840" y="1790640"/>
            <a:ext cx="1143000" cy="1447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61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ylindrical barrel has a radius of 1.2 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9600" y="304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xample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7398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ater is pouring in at a rate of 3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min, at what rate is the height of water in the barrel increas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81840" y="1647720"/>
            <a:ext cx="1143000" cy="114300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81800" y="1247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15360" y="181944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8003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34800" y="2400480"/>
          <a:ext cx="1311480" cy="94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2400480"/>
                    <a:ext cx="131148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04920" y="3514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2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743200" y="3343320"/>
          <a:ext cx="161604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343320"/>
                    <a:ext cx="1616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324000" y="43434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chain rule we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66840" y="5105520"/>
          <a:ext cx="2224080" cy="94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6840" y="5105520"/>
                    <a:ext cx="222408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276880" y="2219400"/>
          <a:ext cx="1249200" cy="94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76880" y="2219400"/>
                    <a:ext cx="12492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257800" y="3429000"/>
          <a:ext cx="1951200" cy="94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7800" y="3429000"/>
                    <a:ext cx="19512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302080" y="4600440"/>
          <a:ext cx="3137040" cy="944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02080" y="4600440"/>
                    <a:ext cx="3137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4267080" y="5759280"/>
            <a:ext cx="47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ight of water is changing at a rate of 0.66 m/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33800" y="2305080"/>
            <a:ext cx="0" cy="3352680"/>
          </a:xfrm>
          <a:prstGeom prst="line">
            <a:avLst/>
          </a:prstGeom>
          <a:ln w="19080">
            <a:solidFill>
              <a:srgbClr val="33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8780400" y="6541920"/>
            <a:ext cx="182520" cy="182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0:11:11Z</dcterms:created>
  <dc:creator>Peter Maher</dc:creator>
  <dc:description/>
  <dc:language>en-US</dc:language>
  <cp:lastModifiedBy>Peter Maher</cp:lastModifiedBy>
  <dcterms:modified xsi:type="dcterms:W3CDTF">2004-11-19T14:47:04Z</dcterms:modified>
  <cp:revision>40</cp:revision>
  <dc:subject/>
  <dc:title>Slide 1</dc:title>
</cp:coreProperties>
</file>